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17E-1910-4A05-B52D-44A25C1D3B67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F4BC-A74F-43AA-901E-FC807EAE5EDD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B036-D009-4544-8B7F-05D15D3EB8CB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270-D027-40F2-AE80-0792E35E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347-7623-4FC8-ABB6-65D7ECB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31C-4E66-4B69-BF4A-5BF1340D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6B8-919D-4C16-AEC2-C9DD73D7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8104-5BD9-4B04-B59B-D3C6EB05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C1E2-F459-4250-B2CB-ABA8649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703-5C14-460B-837E-F0FD53C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E56-10A5-4259-8E78-7F1B5371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E98F-23AC-4FA8-8EE8-154376E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197A-4D96-45EA-BC0A-E0C6B67F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CC91-AE50-4367-AD9D-3BBE2C79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952-6C25-4C2F-90EF-0467ECB7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A800-4341-4ADD-BEC1-7FB0E670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A34E-514B-4D99-9D8F-0E44913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3E05-D0FB-4D33-9501-5D09C3D0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65A-8D50-4A80-8572-789A0E4F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07D6-9927-4D30-9048-9CE3B489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0E4F-AF2C-41B6-BDD6-428698D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5828-B661-4E5C-BBA3-BB01A65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4608-2C5F-4DDA-BB1A-A8424681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B9F2-E929-4FC1-B881-4D40F800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2A13-5992-4F7B-A978-1B0E99FD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0BF-E0F5-4C72-8D7A-FACA108F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1CEB-CBD2-49E8-B13D-B706812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9EB1-67AE-4439-AC79-DFE6DCE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10D4-710D-4CC5-A146-22A17B6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33CB-996D-4366-8C5B-CEB4E1BE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BCFA-F131-40AA-AD8C-8961735B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2591-66E5-448A-B0E1-0865CA55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0F1B-B473-481B-8275-1250A3F9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9292-EB02-4570-BE3F-9F7B87EC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53B7-0D88-4E60-AA33-C40AA526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0D6E-A872-4E47-922C-F0F87BC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6A4-ECF4-4567-A2E9-0162688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62845-D184-4FFD-B7D0-DD399F13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14F1-7B29-4E65-99AB-5247D97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466D-4993-46B1-97C7-76466A43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E39F-A473-46CA-A385-F6954CF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D710-7547-4912-88B9-813E29D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53F5-6EF8-4795-B24C-D0449BCE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972B-804A-456A-9095-BE5A88E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227C-E400-4416-A800-2BA2EF87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7863-E454-4FD7-9395-D4453F0F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D3EA-0BCE-4D2F-9C0D-23D55535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2B9-991E-4748-A9F2-F77BF9F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E25F-94EA-4777-86FF-3FF084E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03E7-8CAC-4BDA-8B0D-01AE1240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6B63-AEB9-4210-B438-DF51A9C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B3D1-A61A-4347-B868-8D842A7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591A-0F7D-4126-8293-6179B8F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78D1-C775-421D-B2CF-AD62266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A5E4-B447-4F26-95D6-05442B9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CD22-1382-4AC0-B832-0A63FA0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53825-614C-45B4-9E18-D98CCCB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907E-ABAA-4088-9D25-7143A3DD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BA1-E08C-4A03-BC4C-F388F13A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2E1A-C0C8-46F4-BA8F-963FB46B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8F20-1B02-4BB2-A0A4-B1E4AE60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5654-832F-4182-B549-3582D96D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BFFB-9B3F-49E3-9FE0-E15F2F3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DF45-BBE0-47A3-B926-DB477AED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A991-E676-4FB3-B3AA-AA46CDEE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26C1-D63D-4F03-80D9-3A8685A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E847-1AE4-4D82-91FA-047A565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78B3-0946-4B3F-8CCA-61799AEF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D1270-143F-4941-8CED-E73166B7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535-B095-4DA1-8D37-061CE2B1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8E41C-C35C-4672-BE3E-AF1E74C3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1100-3EB4-4278-8070-916DC38C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74862-3502-4FBE-BA6F-FDB12725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AD5B-DB4F-477C-A41C-52A5C57C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0B27-DE25-433F-98E3-CDBFF69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75CFD-D7D9-4D69-8976-872FFFA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E415-A54D-4799-B873-F470587C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59F63-D111-47CF-ACE8-C98F1A6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B75D-A1B9-492F-8A7F-A047862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B16B-C6A6-4994-A020-859D66F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6BD-CDFD-4B22-8D05-49355881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AA54-7365-4383-ACC7-AB1DA22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DA9D-3BBB-42DB-9D77-F950B68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B570-3359-4746-A950-1D4C6E8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3B986-799C-48CE-83DE-9F7E1C4A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BFFC-7C61-4EB0-8BAB-F9FF804B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264-8F9C-4846-A73B-6AB6752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3C6-80F5-469A-8DD5-D823E04046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E27C-6A77-46E9-BBA0-D1BF403882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B33-A3C9-419A-96B3-F178AD82C17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9541-743B-40D8-A697-974214953E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33E-D4D6-4D22-BA09-EB58E54D7A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FC3-6EF6-4720-9681-3662BB2AAA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D43-25AC-41E2-A6F2-5AE7597C46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c/c5/Fasciotomy_leg_open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pload.wikimedia.org/wikipedia/en/1/19/Fasciotomy_leg_stitchednew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72314"/>
                </a:solidFill>
                <a:latin typeface="Gill Sans MT"/>
              </a:rPr>
              <a:t>Case 4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able 2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ura Butz, Natalie 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hris Minning, Fred Roepc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F Posterior Compartment of Leg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muscles make up this compart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strocnemi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e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ntar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od supply and innerv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erior tibial 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bial 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o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ntarflex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Deep Posterior Compartment of Leg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muscles make up this compart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lite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exor Hallicus Long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bialis Posteri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od supply and innerv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erior tibial 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bial 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o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ntarflexion and in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 you think happened to the girl's leg in this cas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exertion of muscles caused them to swell – no space to expand within anterior compart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ronic exertional compartment syndrome (CEC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ute typically caused by trau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clues would indicate paralysis of anterior compartment musc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ability to dorsiflex foot – foot dr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6" descr="updateppsfig3"/>
          <p:cNvPicPr/>
          <p:nvPr/>
        </p:nvPicPr>
        <p:blipFill>
          <a:blip r:embed="rId1"/>
          <a:srcRect l="3205" t="2707" r="45608" b="2707"/>
          <a:stretch/>
        </p:blipFill>
        <p:spPr>
          <a:xfrm>
            <a:off x="228600" y="3886200"/>
            <a:ext cx="1219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terior Tibial Arte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475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would explain the weak pedal puls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terior tibial artery compre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artery were completely closed would there still be any blood flow to the dorsum of the foo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es, due to the collateral flow through the deep plantar arte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es one explain the sensory loss in the girl’s foo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jury to the Deep fibular 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ep fibular n. provides sensory innervation to the adjacent sides of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etatars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2" descr="http://www.myfootshop.com/images/anatomy/deep_peroneal_nerve_entrapment2.jpg"/>
          <p:cNvPicPr/>
          <p:nvPr/>
        </p:nvPicPr>
        <p:blipFill>
          <a:blip r:embed="rId1"/>
          <a:stretch/>
        </p:blipFill>
        <p:spPr>
          <a:xfrm>
            <a:off x="5486400" y="3844800"/>
            <a:ext cx="30290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was the deep fibular nerve compromis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e to the sudden increase in exercise, the muscles in the anterior compartment swelled, increasing the pressure in the anterior compartm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may compress the ner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else is innervated by the Deep Fibular Nerv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addition to all muscles in the anterior leg compartment, the Deep Fibular nerve supplies motor innervation to the Extensor Digitorum Brevis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could test to see if there is motor loss to this muscle to confirm the diagnosi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agno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jective pressure measurements are the gold standard for diagno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imary characteristic distinguishing the chronic condition is pressure elevation during exercise and a slower return to resting value at the end of exerci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 from activity that is causing the p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ce pain subsides slowly re-introduce stressful exerci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ar proper shoes for athletic activ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“shin splints” are recurring shoe inserts may correct any foot variation causing the p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evere cases, fasciotomy may be necess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ut open compartment to relieve pressure and remove necrotic mus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5" descr="Image:Fasciotomy leg op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33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Image:Fasciotomy leg stitchedne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753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 y/o female complaining of pain in anterior left le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stor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cided to go out for school’s cross-country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couple days after workouts she started complaining of pain in anterior left le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ach told her it was probably “shin splints” and that she’d probably be fine if she kept ru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e kept running and pain worsen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in got worse throughout the night and she went to the 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tal Sig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vitals are norm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hysical Ex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sculoskele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ft leg red and swoll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terior aspect of leg sensitive to palpation and felt harder and warmer than other parts of le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rsiflexion of foot and toes severely limi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rsalis pedis pulse was weak and sensory loss was noted betwee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urologic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orsiflexion vs. Plantarflex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3" descr="dorsiflexion.jpg"/>
          <p:cNvPicPr/>
          <p:nvPr/>
        </p:nvPicPr>
        <p:blipFill>
          <a:blip r:embed="rId1"/>
          <a:stretch/>
        </p:blipFill>
        <p:spPr>
          <a:xfrm>
            <a:off x="1523880" y="1295280"/>
            <a:ext cx="68580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muscles dorsiflex the foot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ibialis anteri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tensor Hallicus Long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tensor Digitorum Long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which compartment do these muscles belo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terior compart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innervation and blood supply to this compart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p fibular n. and anterior tibial 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urse of Deep Fibular N. and Anterior Tibial Arter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2" descr="lowerlimb"/>
          <p:cNvPicPr/>
          <p:nvPr/>
        </p:nvPicPr>
        <p:blipFill>
          <a:blip r:embed="rId1"/>
          <a:stretch/>
        </p:blipFill>
        <p:spPr>
          <a:xfrm>
            <a:off x="1523880" y="12952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1610640" y="25909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fibular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124080" y="274320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057400" y="3962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rior Tibial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Straight Arrow Connector 7"/>
          <p:cNvCxnSpPr/>
          <p:nvPr/>
        </p:nvCxnSpPr>
        <p:spPr>
          <a:xfrm flipV="1">
            <a:off x="3657240" y="3885480"/>
            <a:ext cx="1067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371600" y="12189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the other two compartments of the leg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teral Compart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terior Compart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d into Superficial and Deep Lay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ateral Compartment of Le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muscles make up this compartmen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bularis L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bularis Brev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od supply and innerv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bular art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erficial fibular 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o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sion and plantarflex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5:39:24Z</dcterms:created>
  <dc:creator>Laura</dc:creator>
  <dc:description/>
  <dc:language>en-US</dc:language>
  <cp:lastModifiedBy>John Pham</cp:lastModifiedBy>
  <dcterms:modified xsi:type="dcterms:W3CDTF">2008-02-27T04:43:03Z</dcterms:modified>
  <cp:revision>88</cp:revision>
  <dc:subject/>
  <dc:title>Slide 1</dc:title>
</cp:coreProperties>
</file>